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5461-F717-41C4-9D82-9D5560B5F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DC1D-2224-4428-8CA7-BA5751AF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9C10-0D6A-43BB-843F-592AC6A7C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044C-6171-4E98-A669-E77E59E49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616D-4C1F-4045-B7A5-20BA6817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4E81-5433-4BE0-948A-323ACC21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E697-5EF6-44CC-8B9D-C2842691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44E5-C32B-418B-96B6-F8625EAE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8826-FB04-4A52-AFB8-260D75B8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0A4F-3919-477A-BB52-D354083B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1133-D37E-4324-BCC0-6371FA08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1BB0-C49B-469D-94F4-B32A3198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6582-0D7F-448C-ADBD-B45A96870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130120"/>
            <a:ext cx="8136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Lumea piticilor 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ene pentru cei mi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16000" y="1773360"/>
            <a:ext cx="2484360" cy="2665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219640" y="1700280"/>
            <a:ext cx="3024360" cy="24829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umea copilări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00120" y="1654200"/>
            <a:ext cx="1952640" cy="2076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724360" y="2133720"/>
            <a:ext cx="1830600" cy="1149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689120" y="4121280"/>
            <a:ext cx="1573200" cy="1820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753160" y="4280040"/>
            <a:ext cx="1827000" cy="150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8:53:45Z</dcterms:created>
  <dc:creator>AS</dc:creator>
  <dc:description/>
  <dc:language>en-US</dc:language>
  <cp:lastModifiedBy>AS</cp:lastModifiedBy>
  <dcterms:modified xsi:type="dcterms:W3CDTF">2010-01-07T19:24:33Z</dcterms:modified>
  <cp:revision>4</cp:revision>
  <dc:subject/>
  <dc:title>Lumea piticilor …</dc:title>
</cp:coreProperties>
</file>